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49435B-8075-44D7-BC41-1060A86399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59CEF8-7485-4BA3-806C-540B9BF8C6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45D8AA-A5D0-4016-A6DF-BE50A07B4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0906-DAAC-444A-9163-C0E3631E7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D91A-59AC-49AF-9D86-958A2D4F2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5BCB5E-0DB2-44DF-8B89-8170B17DF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3415AB-E0BF-4793-B280-81B3C6446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1EE218-B854-4FC9-81AC-C3635DC4E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A88911-7F78-4681-82B3-FF620F54D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5FB82A-22F5-4F67-81AD-49DBB5029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395B53-45AD-4392-BB84-D46B426E1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412B05-3EC6-4E1E-A8D0-D9225B51F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671194-813C-41BA-BA43-559C0B714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322C0F-84E4-41A4-A99A-B49847192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3BD7F1-784C-4A28-BBF3-28ED485DA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2AF6-974A-4B77-8ECA-358B6DD58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59F559-5F93-42E8-B56A-3D3D5909D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3CADAB-9AF5-49CF-AE59-2BD0FCCE5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57C3AC-63C1-4E93-89D8-7457F2FB7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548172-BB57-4740-BD0F-222FDAE4D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A5E57D-116D-45CD-99C0-501037AFA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5AD6FD-819C-4295-8DF5-DC59FDE19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8121D4-D032-4736-96CD-A81028CE0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032236-95C0-4176-ADE5-31F477325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5C26E1-4BF6-4FBE-B48A-32313CC4B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D97C65-0122-4E82-8828-6DAC0EC80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56FF-3F59-4D36-B481-B81875669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BD14D8-0BA9-4C42-AF34-B05064549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88D5C4-561F-452B-8F17-92B60E7D2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0D832C-530B-4012-BC2A-A94457E6F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4DAD00-CA78-4384-87A0-AAE1BEDE4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BA463A-6852-45CD-AE66-BF98D510A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2AB016-01EC-40A6-8A62-EF9354C70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05BD4D-7F81-4742-A31E-857CA81E9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6E43F4-4EA6-475C-9CE4-B5A26CFE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D2D6B8-ABF7-4B80-810A-D0B25A417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B2A630-318E-47E8-9C3D-9BDE4B0F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D8B0B-C9EA-4CA2-95CD-384064C50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72CABF-AF17-44F4-A367-132DA6B28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250ABD-7FEA-4C58-8727-8EFB89973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8CC3D4-9BFC-4CA9-AFB7-AFFF9D8D1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598675-1062-4670-AEE4-6037C6387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D08A3A-82A5-4D38-B49F-55A26349F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8A08D8-D2FF-4D39-9AA3-249EE1B16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26A30A-270D-4AAF-886E-271F27282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7E3615-E011-4752-AB8F-8B8BA23D6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6C3BFB-AE94-4E8B-A83F-02D2D9C2F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51109C-97BF-4385-BB82-BF9CDF479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D005C-3D60-40D0-8437-D37A974E5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73B9EF-0C20-4691-8006-A97BA641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2D566B-7FBA-400A-B66B-19FD97B9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416313-173F-447A-88C3-26EDC796E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E32E5A-5261-4344-BE07-94D6B9C62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AA7256-0ABA-4553-AA03-23A9F95E6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CD7B18-7E80-478C-B4BA-0DE0ABB0F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DF96B5-8DF2-4667-8EAA-FC0549F5C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4F3E26-B259-42DE-A01A-8D8A10738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E17220-75A1-48A1-9EF0-98C1B2F69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A9B1B8-FE1B-4B2C-B750-4F888DE43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D64AD-60D8-410F-916C-6B09D019A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7A0B6A-7589-40D3-9D55-085790942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0B40CF-4654-48CE-988E-3BFE9677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5025D8-F037-43D1-876E-F84007B5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6CF9A5-31BE-40D1-A87D-F65209D25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4477F5-D7D7-45BB-BE16-9A499C0C1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0CD7E3-FE92-43CF-AA3E-B9CD6848F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71F57C-D22F-4051-B153-F5325B9D8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57E33D-89F8-491B-BC4B-B2665BD61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AD2BB4-DD3B-4464-93B8-C490F5AFD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4D9731-B709-465B-8C93-E1DE233E2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B380E-47DB-40E5-B0E5-735D9F205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4C1FBB-6FBF-4139-8BAF-43046A2FF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9DB1D3-C772-4272-A1BC-4963B9127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05152E-F8E1-4EDF-8A6B-9FCAAC46E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D675C2-03B9-4B1C-8615-9E56583B2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0EC006-ABC3-452E-8427-7332E5A0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35B290-0FF7-466F-864E-E39183D7E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2763B2-D519-42AB-9B41-27E155C1B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1709FD-02E6-4062-BBEF-CF93C4F46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55E13D-B448-4FE9-BF51-E7ABA218C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534BCC-082C-44BF-B37D-3AD1A2BE8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F239D-2854-468A-A07D-AFF14764D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E39DAA-4B8A-494D-BFE7-A81284DB5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FF176A-851E-4D6D-976F-92F1BE471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EED2BB-6E8B-4CE7-BA56-83A4C3167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1BFABD-8ED3-4A8A-9023-D11D20A22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BBBE0A-3A4C-4D00-AC97-9726AC9D6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FB453B-CDBE-4C8F-B996-1F95E1CC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D91B51-DD8A-4DDC-8107-4F11AC210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5DA7A7-2114-4A88-B7A1-4A2FE327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5701CA-86D9-43E5-9C15-BC97C223B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99EA84-A4E0-45BF-AA43-159FC3123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FEFF4-6916-4BC0-A68D-76D7CA730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F7BEE9-3B42-4FD0-A691-B22616E52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246C50-0C30-4348-A500-D9DA5EF4D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E508A4-ACD5-4439-8290-CBF3C4AA4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549DBB-A5F3-4D54-A446-11B356434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A2031F-3C89-49A4-9700-16AC3FE91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CA1979-8E53-434E-8BBC-DDC891F24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5FA4ED-7898-4EED-9B09-1C7DB3950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4E7C78-F8E2-46E6-B783-1FAB6F928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79A713-77F1-48A4-86D8-04FE96BC7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A15BD7-BD42-452D-B09F-A434A7CE6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FBC59-4D7B-42D9-A31C-ADBD9B74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FD030D-FDFA-4D8D-AB25-260AB70AE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DB965A-8B30-44CE-B2D2-E7EFF0A15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1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2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8343FC-47EE-4AE4-87A0-EABA7672B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278BE0-7C4B-4D91-AD19-891940037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700D4C-98F8-45CD-9827-A77D819AE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1E8D99-6A13-4B7D-A945-577058FCF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907B22-9169-48F6-BB94-5FE14A73C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D65B47-F603-4A3C-A731-A1F0E27D5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D02D4B-53B5-4D4D-86F5-67BC26EE0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B9F390-BA05-4C0D-934A-DCE04E81A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5CEB-5473-4E07-BC55-1C1106888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FA047-F4CF-4BF0-8114-E3225589A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DEECD7-0714-4D89-950D-3F9B141A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04F74B-7E59-467F-8DEE-F465C15E6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808095-6098-4FAD-B801-EE6F7C0D0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21C35B-58F3-4BC3-A534-CA4D97C82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1B6C84-E346-4D8B-90BD-A03F15D6F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22E1F-92F1-4460-8C2D-A95E6D84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1124F-B381-45C3-870F-2F933C1CE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F49BC-E769-4FAF-ADEE-56F1A8883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05D42-77F7-4B8D-A740-C37FAF7AD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B541D-C752-4748-8512-86D99C001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5290F-BD1D-475A-84A6-A03218CC0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B3D10-1451-43DB-80AB-559032A00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7C039-701A-4A01-84D0-039496F74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A0FA8-DAA6-425A-8B1E-DF2988B91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1BBE-FD9F-484B-BA44-4452FBE5F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325D5-5E2B-4ECA-A7E5-F1F29D23A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E05DF-124C-4DB8-B2EF-9D17D4B40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4B599-CD92-4CC1-8CC8-1FAAD81E0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5B94B-9550-490F-AF6A-AF95C322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31652-BAC0-411E-85D9-EFFE63227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1EAD1-6F8A-46EC-AEAC-F0D7583AF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B0014-81C7-435A-93F2-E6CDB52B4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F70E5-5CBC-44B6-87F5-831793F01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62663-F0B4-4C78-B913-F735E7215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57472-8D67-4E23-84C9-6F6BA9BCC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E34D-543C-4E3E-A718-A8EC5CE07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7B4BA-5883-4ED2-A242-1CB38CC8A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7CD97-1DF4-4C11-ADB9-4A3EEAFBB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0452B-A7C5-4205-A9F8-554CA9F1B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1A47F-0938-4476-A06B-41D29696F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D2239-B38F-4369-AAE2-6268A8C6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D23E5-9C59-4DF2-A6EE-28F0FCAD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6CA9D-A94C-42E2-B368-F327410FA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C96C2-5A1A-4F8E-9F87-28D19DD49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6DCA3-F5FF-4630-9A0E-8A05FB523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0434B-EFBC-4741-A388-1187349BA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9F99-26DD-4F82-9BB4-6D8A6493B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0F1134-3BE8-4E36-832E-DF335179A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8C9C1A-3C93-46CA-9FF7-D8B828708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AABC05-BF93-4D99-83FD-8C463A2B6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8C51D-32DD-4540-A6CA-D655E55EA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FE6FAB-B7F1-432E-8FCE-DD2C87CDC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EF08C-EA0A-48AF-99E7-3F516517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20F27-3DCF-4E8F-BAB0-AA7759C1C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3FA5BA-4162-414E-92D3-9A2E623B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918DB1-47BB-49DC-A90C-C187E8194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E3C35-E9B1-4EE6-A9DF-969D038F9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99A1-0A24-4919-9354-FA4E5917B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7A0F99-A6A8-493C-9DB6-F6E09D5D5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93AD62-2F57-442C-B810-827790ED7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86212F-A3BA-431A-9678-0C1E6B894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3BD51F-CDC0-4944-82EB-FAB051707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29EFCE-D294-4615-80F4-7F708565B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3E6C97-DE04-4102-8EC3-6E683243E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C3D976-4DF2-4EF7-ADDF-6B1BCAE67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DCBF82-3C47-4C72-8108-C7AFCE84F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5458E-30F2-4523-846A-6F275ECC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ABE92D-3C66-4CE1-BE74-7193AB937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9BEB-870C-409C-9268-177D14BC3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CB258D-381E-473F-AB7D-B9B085B7E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74BA4B-D550-4077-BC45-0BA4CF37F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1A43D8-0648-4906-8115-9C50AB039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284AD0-8540-44CB-B9B3-2881D3C5F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34468A-7D0E-4AE7-9CCC-C804AAD68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29409F-93AF-4E9D-85D8-73BC50B73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53BFD6-2D44-4971-811D-36C2A0CF3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7E0272-178C-4727-AB98-F53D542B2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9FEA52-76FA-49CA-B08B-9A9453320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5614D0-3491-4A3D-B64B-6760C68D3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20F3-46F9-405C-8155-5883A673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5DFDBD-96F7-4B09-A78C-27320E26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0C3E90-003C-4CE0-812D-80445CFE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20F5C2-F1DA-44DE-BAFE-AF6C4C42C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63A648-105E-4B7E-BE15-F09A8FFEB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473D2C-80DF-45F5-B43F-32982B6ED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D24221-7B9B-4C1F-AC23-A3CF65CD8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474788-1D47-409D-8B99-9774BA14C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C52575-78EE-48D0-A884-94EA56A0B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05A8D8-0FAC-44BF-A196-49E6DCBBB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521DF3-33F2-4818-A9B4-8544B69C7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AFD4-D301-4ED0-8924-C6E90713E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519273-8113-41E3-953F-C0884D43E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CA8A31-52E9-44B1-8195-0E9D9FA0A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709F53-48BA-4EEF-A0D6-359AA6D6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316543-CB95-4FC2-A680-6E9FF2B0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5BB4AE-AFC2-4252-AE1F-C7BC55F9D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F400BB-37E8-4A5D-91B8-1A6B891EB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465990-51D9-465D-9C67-5F0E8E038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FCC193-B454-4841-AFBB-FEEDF4D21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3BDBFB-BD90-4B1B-B1C9-302E354AE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8E711A-35D5-493C-9E63-1CF0AF8ED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2E2989-1B18-42AF-A022-B5E7304E25E3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5C44E3-7097-413C-A5AA-8B6123AFEFBB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Group 6"/>
          <p:cNvGrpSpPr/>
          <p:nvPr/>
        </p:nvGrpSpPr>
        <p:grpSpPr>
          <a:xfrm>
            <a:off x="284040" y="452520"/>
            <a:ext cx="8575920" cy="137880"/>
            <a:chOff x="284040" y="452520"/>
            <a:chExt cx="8575920" cy="137880"/>
          </a:xfrm>
        </p:grpSpPr>
        <p:sp>
          <p:nvSpPr>
            <p:cNvPr id="415" name="Rectangle 7"/>
            <p:cNvSpPr/>
            <p:nvPr/>
          </p:nvSpPr>
          <p:spPr>
            <a:xfrm>
              <a:off x="284040" y="452520"/>
              <a:ext cx="1600200" cy="1378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8"/>
            <p:cNvSpPr/>
            <p:nvPr/>
          </p:nvSpPr>
          <p:spPr>
            <a:xfrm>
              <a:off x="1884240" y="452520"/>
              <a:ext cx="2743200" cy="1378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9"/>
            <p:cNvSpPr/>
            <p:nvPr/>
          </p:nvSpPr>
          <p:spPr>
            <a:xfrm>
              <a:off x="4626000" y="452520"/>
              <a:ext cx="4233960" cy="1378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28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C983D2-EF62-4927-833A-7283626151D7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9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30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BF173E-4F83-455B-8497-7F6CEA0CAEC4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Group 6"/>
          <p:cNvGrpSpPr/>
          <p:nvPr/>
        </p:nvGrpSpPr>
        <p:grpSpPr>
          <a:xfrm>
            <a:off x="284040" y="452520"/>
            <a:ext cx="8575920" cy="137880"/>
            <a:chOff x="284040" y="452520"/>
            <a:chExt cx="8575920" cy="137880"/>
          </a:xfrm>
        </p:grpSpPr>
        <p:sp>
          <p:nvSpPr>
            <p:cNvPr id="460" name="Rectangle 7"/>
            <p:cNvSpPr/>
            <p:nvPr/>
          </p:nvSpPr>
          <p:spPr>
            <a:xfrm>
              <a:off x="284040" y="452520"/>
              <a:ext cx="1600200" cy="1378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8"/>
            <p:cNvSpPr/>
            <p:nvPr/>
          </p:nvSpPr>
          <p:spPr>
            <a:xfrm>
              <a:off x="1884240" y="452520"/>
              <a:ext cx="2743200" cy="1378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9"/>
            <p:cNvSpPr/>
            <p:nvPr/>
          </p:nvSpPr>
          <p:spPr>
            <a:xfrm>
              <a:off x="4626000" y="452520"/>
              <a:ext cx="4233960" cy="1378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1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C62ABA-E058-4B3A-9C59-73B6F51B4B25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2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3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1E5822-A979-4999-825C-5CD8E040A8A4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6"/>
          <p:cNvSpPr/>
          <p:nvPr/>
        </p:nvSpPr>
        <p:spPr>
          <a:xfrm>
            <a:off x="284040" y="4802040"/>
            <a:ext cx="857412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Group 7"/>
          <p:cNvGrpSpPr/>
          <p:nvPr/>
        </p:nvGrpSpPr>
        <p:grpSpPr>
          <a:xfrm>
            <a:off x="284040" y="6262560"/>
            <a:ext cx="8575920" cy="138240"/>
            <a:chOff x="284040" y="6262560"/>
            <a:chExt cx="8575920" cy="138240"/>
          </a:xfrm>
        </p:grpSpPr>
        <p:sp>
          <p:nvSpPr>
            <p:cNvPr id="506" name="Rectangle 8"/>
            <p:cNvSpPr/>
            <p:nvPr/>
          </p:nvSpPr>
          <p:spPr>
            <a:xfrm>
              <a:off x="284040" y="6262560"/>
              <a:ext cx="274320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Rectangle 9"/>
            <p:cNvSpPr/>
            <p:nvPr/>
          </p:nvSpPr>
          <p:spPr>
            <a:xfrm>
              <a:off x="3025800" y="6262560"/>
              <a:ext cx="1600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Rectangle 10"/>
            <p:cNvSpPr/>
            <p:nvPr/>
          </p:nvSpPr>
          <p:spPr>
            <a:xfrm>
              <a:off x="4626000" y="6262560"/>
              <a:ext cx="4233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9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34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F9A1FB-A80B-40EF-9626-2D421B59C932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35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36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B09EFE-EE35-4961-842D-CDEB99A7A079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Group 8"/>
          <p:cNvGrpSpPr/>
          <p:nvPr/>
        </p:nvGrpSpPr>
        <p:grpSpPr>
          <a:xfrm>
            <a:off x="284040" y="4280040"/>
            <a:ext cx="8575920" cy="137880"/>
            <a:chOff x="284040" y="4280040"/>
            <a:chExt cx="8575920" cy="137880"/>
          </a:xfrm>
        </p:grpSpPr>
        <p:sp>
          <p:nvSpPr>
            <p:cNvPr id="551" name="Rectangle 7"/>
            <p:cNvSpPr/>
            <p:nvPr/>
          </p:nvSpPr>
          <p:spPr>
            <a:xfrm>
              <a:off x="284040" y="4280040"/>
              <a:ext cx="2743200" cy="1378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Rectangle 8"/>
            <p:cNvSpPr/>
            <p:nvPr/>
          </p:nvSpPr>
          <p:spPr>
            <a:xfrm>
              <a:off x="3025800" y="4280040"/>
              <a:ext cx="1600200" cy="1378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Rectangle 9"/>
            <p:cNvSpPr/>
            <p:nvPr/>
          </p:nvSpPr>
          <p:spPr>
            <a:xfrm>
              <a:off x="4626000" y="4280040"/>
              <a:ext cx="4233960" cy="1378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7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A33E80-E7AD-477C-8488-76A53015C548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8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9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800857-1D2F-44AE-A5C5-F8E2967935D2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6"/>
          <p:cNvSpPr/>
          <p:nvPr/>
        </p:nvSpPr>
        <p:spPr>
          <a:xfrm>
            <a:off x="284040" y="4267080"/>
            <a:ext cx="2743200" cy="212112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Group 14"/>
          <p:cNvGrpSpPr/>
          <p:nvPr/>
        </p:nvGrpSpPr>
        <p:grpSpPr>
          <a:xfrm>
            <a:off x="284040" y="461880"/>
            <a:ext cx="8575920" cy="136440"/>
            <a:chOff x="284040" y="461880"/>
            <a:chExt cx="8575920" cy="136440"/>
          </a:xfrm>
        </p:grpSpPr>
        <p:sp>
          <p:nvSpPr>
            <p:cNvPr id="597" name="Rectangle 8"/>
            <p:cNvSpPr/>
            <p:nvPr/>
          </p:nvSpPr>
          <p:spPr>
            <a:xfrm>
              <a:off x="284040" y="461880"/>
              <a:ext cx="2743200" cy="1364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Rectangle 9"/>
            <p:cNvSpPr/>
            <p:nvPr/>
          </p:nvSpPr>
          <p:spPr>
            <a:xfrm>
              <a:off x="3025800" y="461880"/>
              <a:ext cx="1600200" cy="1364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Rectangle 10"/>
            <p:cNvSpPr/>
            <p:nvPr/>
          </p:nvSpPr>
          <p:spPr>
            <a:xfrm>
              <a:off x="4626000" y="461880"/>
              <a:ext cx="4233960" cy="1364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0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 type="dt" idx="40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F25482-BC71-4100-822E-777E2ABD45C6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 type="ftr" idx="41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 type="sldNum" idx="42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D69E1D-D362-4B1A-8A63-85F9DF11C827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6"/>
          <p:cNvSpPr/>
          <p:nvPr/>
        </p:nvSpPr>
        <p:spPr>
          <a:xfrm>
            <a:off x="3021120" y="4802040"/>
            <a:ext cx="583704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Group 7"/>
          <p:cNvGrpSpPr/>
          <p:nvPr/>
        </p:nvGrpSpPr>
        <p:grpSpPr>
          <a:xfrm>
            <a:off x="284040" y="6262560"/>
            <a:ext cx="8575920" cy="138240"/>
            <a:chOff x="284040" y="6262560"/>
            <a:chExt cx="8575920" cy="138240"/>
          </a:xfrm>
        </p:grpSpPr>
        <p:sp>
          <p:nvSpPr>
            <p:cNvPr id="643" name="Rectangle 8"/>
            <p:cNvSpPr/>
            <p:nvPr/>
          </p:nvSpPr>
          <p:spPr>
            <a:xfrm>
              <a:off x="284040" y="6262560"/>
              <a:ext cx="274320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9"/>
            <p:cNvSpPr/>
            <p:nvPr/>
          </p:nvSpPr>
          <p:spPr>
            <a:xfrm>
              <a:off x="3025800" y="6262560"/>
              <a:ext cx="1600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10"/>
            <p:cNvSpPr/>
            <p:nvPr/>
          </p:nvSpPr>
          <p:spPr>
            <a:xfrm>
              <a:off x="4626000" y="6262560"/>
              <a:ext cx="4233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dt" idx="43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337B34-EEDF-4595-96BD-EAB515645AB2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44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sldNum" idx="45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325184-DA47-40ED-A291-C406038C06A9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6"/>
          <p:cNvSpPr/>
          <p:nvPr/>
        </p:nvSpPr>
        <p:spPr>
          <a:xfrm>
            <a:off x="284040" y="455760"/>
            <a:ext cx="8574120" cy="11332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Group 7"/>
          <p:cNvGrpSpPr/>
          <p:nvPr/>
        </p:nvGrpSpPr>
        <p:grpSpPr>
          <a:xfrm>
            <a:off x="284040" y="1577880"/>
            <a:ext cx="8575920" cy="136800"/>
            <a:chOff x="284040" y="1577880"/>
            <a:chExt cx="8575920" cy="136800"/>
          </a:xfrm>
        </p:grpSpPr>
        <p:sp>
          <p:nvSpPr>
            <p:cNvPr id="689" name="Rectangle 8"/>
            <p:cNvSpPr/>
            <p:nvPr/>
          </p:nvSpPr>
          <p:spPr>
            <a:xfrm>
              <a:off x="284040" y="1577880"/>
              <a:ext cx="1600200" cy="1368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Rectangle 9"/>
            <p:cNvSpPr/>
            <p:nvPr/>
          </p:nvSpPr>
          <p:spPr>
            <a:xfrm>
              <a:off x="1884240" y="1577880"/>
              <a:ext cx="2743200" cy="1368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Rectangle 10"/>
            <p:cNvSpPr/>
            <p:nvPr/>
          </p:nvSpPr>
          <p:spPr>
            <a:xfrm>
              <a:off x="4626000" y="1577880"/>
              <a:ext cx="4233960" cy="136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2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 type="dt" idx="46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12F861-B708-4D59-8346-CE37432BE599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 type="ftr" idx="47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 type="sldNum" idx="48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49A918-3078-4B3D-BE8B-328802E0BE7A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6"/>
          <p:cNvSpPr/>
          <p:nvPr/>
        </p:nvSpPr>
        <p:spPr>
          <a:xfrm rot="5400000">
            <a:off x="5313600" y="2856600"/>
            <a:ext cx="5934240" cy="11350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4" name="Group 7"/>
          <p:cNvGrpSpPr/>
          <p:nvPr/>
        </p:nvGrpSpPr>
        <p:grpSpPr>
          <a:xfrm>
            <a:off x="7556400" y="457200"/>
            <a:ext cx="138240" cy="5934240"/>
            <a:chOff x="7556400" y="457200"/>
            <a:chExt cx="138240" cy="5934240"/>
          </a:xfrm>
        </p:grpSpPr>
        <p:sp>
          <p:nvSpPr>
            <p:cNvPr id="735" name="Rectangle 8"/>
            <p:cNvSpPr/>
            <p:nvPr/>
          </p:nvSpPr>
          <p:spPr>
            <a:xfrm rot="5400000">
              <a:off x="7072200" y="941040"/>
              <a:ext cx="110628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Rectangle 9"/>
            <p:cNvSpPr/>
            <p:nvPr/>
          </p:nvSpPr>
          <p:spPr>
            <a:xfrm rot="5400000">
              <a:off x="6676920" y="2444760"/>
              <a:ext cx="1897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Rectangle 10"/>
            <p:cNvSpPr/>
            <p:nvPr/>
          </p:nvSpPr>
          <p:spPr>
            <a:xfrm rot="5400000">
              <a:off x="6161040" y="4857840"/>
              <a:ext cx="2928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8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49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0B770E-D538-4E1E-9FDA-851FFB63D433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0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1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320154-E2D9-4CE3-BBB5-4372205BB434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284040" y="444600"/>
            <a:ext cx="857412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16"/>
          <p:cNvGrpSpPr/>
          <p:nvPr/>
        </p:nvGrpSpPr>
        <p:grpSpPr>
          <a:xfrm>
            <a:off x="284040" y="1906560"/>
            <a:ext cx="8575920" cy="138240"/>
            <a:chOff x="284040" y="1906560"/>
            <a:chExt cx="8575920" cy="138240"/>
          </a:xfrm>
        </p:grpSpPr>
        <p:sp>
          <p:nvSpPr>
            <p:cNvPr id="43" name="Rectangle 8"/>
            <p:cNvSpPr/>
            <p:nvPr/>
          </p:nvSpPr>
          <p:spPr>
            <a:xfrm>
              <a:off x="284040" y="1906560"/>
              <a:ext cx="274320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9"/>
            <p:cNvSpPr/>
            <p:nvPr/>
          </p:nvSpPr>
          <p:spPr>
            <a:xfrm>
              <a:off x="3025800" y="1906560"/>
              <a:ext cx="1600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10"/>
            <p:cNvSpPr/>
            <p:nvPr/>
          </p:nvSpPr>
          <p:spPr>
            <a:xfrm>
              <a:off x="4626000" y="1906560"/>
              <a:ext cx="4233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TextBox 11"/>
          <p:cNvSpPr/>
          <p:nvPr/>
        </p:nvSpPr>
        <p:spPr>
          <a:xfrm>
            <a:off x="8205840" y="4446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284040" y="6227640"/>
            <a:ext cx="8574120" cy="17316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827457-166B-448A-847A-3EC359FA6123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19BDC1-7FA8-49B2-9878-AAC501B0A8A2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284040" y="455760"/>
            <a:ext cx="8574120" cy="11332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7"/>
          <p:cNvGrpSpPr/>
          <p:nvPr/>
        </p:nvGrpSpPr>
        <p:grpSpPr>
          <a:xfrm>
            <a:off x="284040" y="1577880"/>
            <a:ext cx="8575920" cy="136800"/>
            <a:chOff x="284040" y="1577880"/>
            <a:chExt cx="8575920" cy="136800"/>
          </a:xfrm>
        </p:grpSpPr>
        <p:sp>
          <p:nvSpPr>
            <p:cNvPr id="91" name="Rectangle 8"/>
            <p:cNvSpPr/>
            <p:nvPr/>
          </p:nvSpPr>
          <p:spPr>
            <a:xfrm>
              <a:off x="284040" y="1577880"/>
              <a:ext cx="1600200" cy="1368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9"/>
            <p:cNvSpPr/>
            <p:nvPr/>
          </p:nvSpPr>
          <p:spPr>
            <a:xfrm>
              <a:off x="1884240" y="1577880"/>
              <a:ext cx="2743200" cy="1368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0"/>
            <p:cNvSpPr/>
            <p:nvPr/>
          </p:nvSpPr>
          <p:spPr>
            <a:xfrm>
              <a:off x="4626000" y="1577880"/>
              <a:ext cx="4233960" cy="136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0311C5-5276-4C3D-AC72-9028E923510B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594183-9B5A-470B-BF49-EE5C0261B722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6"/>
          <p:cNvSpPr/>
          <p:nvPr/>
        </p:nvSpPr>
        <p:spPr>
          <a:xfrm>
            <a:off x="284040" y="444600"/>
            <a:ext cx="857412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16"/>
          <p:cNvGrpSpPr/>
          <p:nvPr/>
        </p:nvGrpSpPr>
        <p:grpSpPr>
          <a:xfrm>
            <a:off x="284040" y="1906560"/>
            <a:ext cx="8575920" cy="138240"/>
            <a:chOff x="284040" y="1906560"/>
            <a:chExt cx="8575920" cy="138240"/>
          </a:xfrm>
        </p:grpSpPr>
        <p:sp>
          <p:nvSpPr>
            <p:cNvPr id="137" name="Rectangle 8"/>
            <p:cNvSpPr/>
            <p:nvPr/>
          </p:nvSpPr>
          <p:spPr>
            <a:xfrm>
              <a:off x="284040" y="1906560"/>
              <a:ext cx="274320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9"/>
            <p:cNvSpPr/>
            <p:nvPr/>
          </p:nvSpPr>
          <p:spPr>
            <a:xfrm>
              <a:off x="3025800" y="1906560"/>
              <a:ext cx="1600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0"/>
            <p:cNvSpPr/>
            <p:nvPr/>
          </p:nvSpPr>
          <p:spPr>
            <a:xfrm>
              <a:off x="4626000" y="1906560"/>
              <a:ext cx="4233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TextBox 11"/>
          <p:cNvSpPr/>
          <p:nvPr/>
        </p:nvSpPr>
        <p:spPr>
          <a:xfrm>
            <a:off x="8205840" y="4446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99B572-A137-4CED-BAC7-C1235868C943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92EDA6-CF02-4FFB-A146-03C17AAB0F3B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6"/>
          <p:cNvSpPr/>
          <p:nvPr/>
        </p:nvSpPr>
        <p:spPr>
          <a:xfrm>
            <a:off x="284040" y="4802040"/>
            <a:ext cx="857412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7"/>
          <p:cNvGrpSpPr/>
          <p:nvPr/>
        </p:nvGrpSpPr>
        <p:grpSpPr>
          <a:xfrm>
            <a:off x="284040" y="6262560"/>
            <a:ext cx="8575920" cy="138240"/>
            <a:chOff x="284040" y="6262560"/>
            <a:chExt cx="8575920" cy="138240"/>
          </a:xfrm>
        </p:grpSpPr>
        <p:sp>
          <p:nvSpPr>
            <p:cNvPr id="184" name="Rectangle 8"/>
            <p:cNvSpPr/>
            <p:nvPr/>
          </p:nvSpPr>
          <p:spPr>
            <a:xfrm>
              <a:off x="284040" y="6262560"/>
              <a:ext cx="274320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9"/>
            <p:cNvSpPr/>
            <p:nvPr/>
          </p:nvSpPr>
          <p:spPr>
            <a:xfrm>
              <a:off x="3025800" y="6262560"/>
              <a:ext cx="1600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0"/>
            <p:cNvSpPr/>
            <p:nvPr/>
          </p:nvSpPr>
          <p:spPr>
            <a:xfrm>
              <a:off x="4626000" y="6262560"/>
              <a:ext cx="4233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extBox 11"/>
          <p:cNvSpPr/>
          <p:nvPr/>
        </p:nvSpPr>
        <p:spPr>
          <a:xfrm>
            <a:off x="8205840" y="48020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57C89B-FADE-4E8B-A3B0-71FCD841221E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CB0A3C-034D-4464-B198-64E0F2447AAF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6"/>
          <p:cNvSpPr/>
          <p:nvPr/>
        </p:nvSpPr>
        <p:spPr>
          <a:xfrm>
            <a:off x="284040" y="4802040"/>
            <a:ext cx="857412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7"/>
          <p:cNvGrpSpPr/>
          <p:nvPr/>
        </p:nvGrpSpPr>
        <p:grpSpPr>
          <a:xfrm>
            <a:off x="284040" y="6262560"/>
            <a:ext cx="8575920" cy="138240"/>
            <a:chOff x="284040" y="6262560"/>
            <a:chExt cx="8575920" cy="138240"/>
          </a:xfrm>
        </p:grpSpPr>
        <p:sp>
          <p:nvSpPr>
            <p:cNvPr id="231" name="Rectangle 8"/>
            <p:cNvSpPr/>
            <p:nvPr/>
          </p:nvSpPr>
          <p:spPr>
            <a:xfrm>
              <a:off x="284040" y="6262560"/>
              <a:ext cx="274320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9"/>
            <p:cNvSpPr/>
            <p:nvPr/>
          </p:nvSpPr>
          <p:spPr>
            <a:xfrm>
              <a:off x="3025800" y="6262560"/>
              <a:ext cx="1600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10"/>
            <p:cNvSpPr/>
            <p:nvPr/>
          </p:nvSpPr>
          <p:spPr>
            <a:xfrm>
              <a:off x="4626000" y="6262560"/>
              <a:ext cx="4233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TextBox 11"/>
          <p:cNvSpPr/>
          <p:nvPr/>
        </p:nvSpPr>
        <p:spPr>
          <a:xfrm>
            <a:off x="8205840" y="48020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88E55E-6AD7-4E3E-89B9-D6BBA1BEBEAC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AAC9B5-52F2-4BF8-AB0E-A4672211B33C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6"/>
          <p:cNvSpPr/>
          <p:nvPr/>
        </p:nvSpPr>
        <p:spPr>
          <a:xfrm>
            <a:off x="284040" y="455760"/>
            <a:ext cx="8574120" cy="11332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7"/>
          <p:cNvGrpSpPr/>
          <p:nvPr/>
        </p:nvGrpSpPr>
        <p:grpSpPr>
          <a:xfrm>
            <a:off x="284040" y="1577880"/>
            <a:ext cx="8575920" cy="136800"/>
            <a:chOff x="284040" y="1577880"/>
            <a:chExt cx="8575920" cy="136800"/>
          </a:xfrm>
        </p:grpSpPr>
        <p:sp>
          <p:nvSpPr>
            <p:cNvPr id="278" name="Rectangle 8"/>
            <p:cNvSpPr/>
            <p:nvPr/>
          </p:nvSpPr>
          <p:spPr>
            <a:xfrm>
              <a:off x="284040" y="1577880"/>
              <a:ext cx="1600200" cy="1368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9"/>
            <p:cNvSpPr/>
            <p:nvPr/>
          </p:nvSpPr>
          <p:spPr>
            <a:xfrm>
              <a:off x="1884240" y="1577880"/>
              <a:ext cx="2743200" cy="1368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10"/>
            <p:cNvSpPr/>
            <p:nvPr/>
          </p:nvSpPr>
          <p:spPr>
            <a:xfrm>
              <a:off x="4626000" y="1577880"/>
              <a:ext cx="4233960" cy="136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8AD07E-ABAB-46BD-9BD0-33F3023BAC75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426591-79FB-49A8-B6C2-D8C171145D89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6"/>
          <p:cNvSpPr/>
          <p:nvPr/>
        </p:nvSpPr>
        <p:spPr>
          <a:xfrm>
            <a:off x="284040" y="455760"/>
            <a:ext cx="8574120" cy="11332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Group 7"/>
          <p:cNvGrpSpPr/>
          <p:nvPr/>
        </p:nvGrpSpPr>
        <p:grpSpPr>
          <a:xfrm>
            <a:off x="284040" y="1577880"/>
            <a:ext cx="8575920" cy="136800"/>
            <a:chOff x="284040" y="1577880"/>
            <a:chExt cx="8575920" cy="136800"/>
          </a:xfrm>
        </p:grpSpPr>
        <p:sp>
          <p:nvSpPr>
            <p:cNvPr id="324" name="Rectangle 8"/>
            <p:cNvSpPr/>
            <p:nvPr/>
          </p:nvSpPr>
          <p:spPr>
            <a:xfrm>
              <a:off x="284040" y="1577880"/>
              <a:ext cx="1600200" cy="1368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9"/>
            <p:cNvSpPr/>
            <p:nvPr/>
          </p:nvSpPr>
          <p:spPr>
            <a:xfrm>
              <a:off x="1884240" y="1577880"/>
              <a:ext cx="2743200" cy="1368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10"/>
            <p:cNvSpPr/>
            <p:nvPr/>
          </p:nvSpPr>
          <p:spPr>
            <a:xfrm>
              <a:off x="4626000" y="1577880"/>
              <a:ext cx="4233960" cy="136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2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15FA09-20AD-4732-AFC6-E7240D3C1B56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3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4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D99CE3-3FA6-4306-B95D-E0F9744499B4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6"/>
          <p:cNvSpPr/>
          <p:nvPr/>
        </p:nvSpPr>
        <p:spPr>
          <a:xfrm>
            <a:off x="284040" y="455760"/>
            <a:ext cx="8574120" cy="11332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7"/>
          <p:cNvGrpSpPr/>
          <p:nvPr/>
        </p:nvGrpSpPr>
        <p:grpSpPr>
          <a:xfrm>
            <a:off x="284040" y="1577880"/>
            <a:ext cx="8575920" cy="136800"/>
            <a:chOff x="284040" y="1577880"/>
            <a:chExt cx="8575920" cy="136800"/>
          </a:xfrm>
        </p:grpSpPr>
        <p:sp>
          <p:nvSpPr>
            <p:cNvPr id="370" name="Rectangle 8"/>
            <p:cNvSpPr/>
            <p:nvPr/>
          </p:nvSpPr>
          <p:spPr>
            <a:xfrm>
              <a:off x="284040" y="1577880"/>
              <a:ext cx="1600200" cy="1368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9"/>
            <p:cNvSpPr/>
            <p:nvPr/>
          </p:nvSpPr>
          <p:spPr>
            <a:xfrm>
              <a:off x="1884240" y="1577880"/>
              <a:ext cx="2743200" cy="1368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10"/>
            <p:cNvSpPr/>
            <p:nvPr/>
          </p:nvSpPr>
          <p:spPr>
            <a:xfrm>
              <a:off x="4626000" y="1577880"/>
              <a:ext cx="4233960" cy="136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7563E1-F6CF-4388-8D1B-E1FFFCFBA81E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6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7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CE9209-B55D-429B-8B19-069C0DB5107B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huhcorp.com/" TargetMode="External"/><Relationship Id="rId2" Type="http://schemas.openxmlformats.org/officeDocument/2006/relationships/hyperlink" Target="http://www.benrik.co.uk/content/books.asp" TargetMode="External"/><Relationship Id="rId3" Type="http://schemas.openxmlformats.org/officeDocument/2006/relationships/hyperlink" Target="http://www.freewayblogger.com/archive.htm" TargetMode="External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adbusters.org/blogs/adbusters-blog/occupywallstreet.html" TargetMode="External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20480" y="448920"/>
            <a:ext cx="7808760" cy="108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4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CT 300: Critical Analysis of Media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75920" y="1401480"/>
            <a:ext cx="7753320" cy="61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lass 6: Media as Agent of Change: Persuasion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ulture Jamming and Online Activism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Examples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00"/>
                </a:solidFill>
                <a:uFillTx/>
                <a:latin typeface="Calibri"/>
                <a:hlinkClick r:id="rId1"/>
              </a:rPr>
              <a:t>http://www.huhcorp.com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00"/>
                </a:solidFill>
                <a:uFillTx/>
                <a:latin typeface="Calibri"/>
                <a:hlinkClick r:id="rId2"/>
              </a:rPr>
              <a:t>http://www.benrik.co.uk/content/books.asp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00"/>
                </a:solidFill>
                <a:uFillTx/>
                <a:latin typeface="Calibri"/>
                <a:hlinkClick r:id="rId3"/>
              </a:rPr>
              <a:t>http://www.freewayblogger.com/archive.htm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Adbusters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nded in 1989 – anti-consumerism, pro-ecology, pro-health focu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rticles but with culture jamming in place of traditional advertisement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dvocacy efforts such as “Buy Nothing Day” – response to “Black Friday” in America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Now 120K reach, mass market availabilit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ritique of Jamming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oo hipster for its own good?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Is it possible to </a:t>
            </a:r>
            <a:r>
              <a:rPr b="0" lang="ja-JP" sz="2800" spc="-1" strike="noStrike">
                <a:solidFill>
                  <a:srgbClr val="262626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downshift</a:t>
            </a:r>
            <a:r>
              <a:rPr b="0" lang="ja-JP" sz="2800" spc="-1" strike="noStrike">
                <a:solidFill>
                  <a:srgbClr val="262626"/>
                </a:solidFill>
                <a:latin typeface="Calibri"/>
              </a:rPr>
              <a:t>”</a:t>
            </a: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 entirely?  Solutions seem at times a bit absolutis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Does it become what it refuses? (e.g., Adbusters production/distribution, shoes)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rbel"/>
              </a:rPr>
              <a:t>Transition to Activism: Adbusters and #OWS</a:t>
            </a: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1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dbusters and #occupywallstreet/#OW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00"/>
                </a:solidFill>
                <a:uFillTx/>
                <a:latin typeface="Calibri"/>
                <a:hlinkClick r:id="rId1"/>
              </a:rPr>
              <a:t>http://www.adbusters.org/blogs/adbusters-blog/occupywallstreet.html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- founding post in July for September protes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 “Tahrir Moment”?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“</a:t>
            </a: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Anonymous”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 comic connection…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Very loose and distributed network, often through unarchived highly anarchic spaces such as 4chan/7cha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Generally concerned with privacy, censorship, freedom of access effort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doing it for the lulz?”  Somewhat – often contributes to serious efforts such as #OW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Wikileaks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ncerned with freedom of information, publication of state and other secret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itially a wiki-based foundation, but with central edit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nlike Anonymous, a very central (and controversial) figurehead in Julian Assange – leading to his (valid?) arrest and splits in org (e.g., OpenLeaks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rbel"/>
              </a:rPr>
              <a:t>Internet Activism and the “Arab Spring”</a:t>
            </a: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7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cent events in Middle East fueled in part by revelations in Wikileaks acknowledging understood regime corruptio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onymous’ support for Iranian green revolution and others – opening up technical channels for communication when central authorities/services shut dow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 “Twitter revolution”?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In-class assignmen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Pick any culture jamming effor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hat message (if any) is being advanced?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hat media are being used to relay this message?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s it successful?  Why/why not?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hat would you do differently?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Can be handed in by next week’s class if required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Administration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Groups – get in them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deas for project?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ic creation questions?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Social Influence and Persuasion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hat makes for an effective pitch?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hat fails?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oncepts in Persuasion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entral and peripheral process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use of heuristics in processing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atitudes of acceptance and rejectio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ource/Receiver characteristics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entral/Peripheral Attention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entral processing – things we pay attention to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Peripheral processing – “noise” in the media atmosphere that nevertheless is effectiv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Branding and peripheral processing – why does Coke, McDonalds, etc. advertise?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Iconography as Heuristic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mplifying message to specific iconographic symbols helpful especially for peripheral process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conographic figures in social movements?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Latitudes of Acceptance/Rejection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atitude of acceptance – a range of beliefs that an individual is willing to receive message for (rejection – the opposite – what people will reject wholesale even with evidence to contrary…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cceptance/rejection and controversial messaging – how to swing people to your sid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Source/Receiver Characteristics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ome sources come with predetermined ideas/biases of their veracit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ome groups of people are more amenable to receiving certain kinds of messag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9/11 Truthers as example – sought out qualified people to defend theories of 9/11 being an inside job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las, many such people also have connections to other conspiratorial plots (e.g., JFK/RFK, Illuminati, UFOs – etc.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ulture Jamming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reation of media products that run counter to mainstream/dominant media but use tools/genres of that media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ften done for political/advocacy purposes; but sometimes done for artistic or anarchistic reas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3T04:03:30Z</dcterms:created>
  <dc:creator>Sheridan College</dc:creator>
  <dc:description/>
  <dc:language>en-US</dc:language>
  <cp:lastModifiedBy>Sheridan College</cp:lastModifiedBy>
  <dcterms:modified xsi:type="dcterms:W3CDTF">2011-10-20T18:51:20Z</dcterms:modified>
  <cp:revision>54</cp:revision>
  <dc:subject/>
  <dc:title>CCT 300: Critical Analysis  of Media</dc:title>
</cp:coreProperties>
</file>